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654-7590-4581-A467-09A2EC1A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1ED-F67B-4ACB-8531-AA847BA8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0C0-B284-4E1E-BA77-4D741FE8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17B-06E0-4C80-843A-020BE6C3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9B4-C133-4FD9-A935-EBED9E05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42A-ED95-43C8-B6F3-431CD0B4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4E0-DEC9-4966-B09C-CC9A168C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CEF-AB21-440E-AFFF-33E63C05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82D-E3D3-4DC3-A68B-306F41B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4B5-F6D3-4573-86E3-AB83C6A4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9BC-C0E7-4D37-8761-C0EC870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AAB-8806-4233-B850-BE24941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3F7B-769D-44C5-B8D4-01D6D9C8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499360" cy="567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6324480" cy="83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74674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848720" cy="133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1532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108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990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5345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78204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059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15364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2:43:17Z</dcterms:created>
  <dc:creator>grahams</dc:creator>
  <dc:description/>
  <dc:language>en-US</dc:language>
  <cp:lastModifiedBy>grahams</cp:lastModifiedBy>
  <dcterms:modified xsi:type="dcterms:W3CDTF">2012-04-26T13:40:12Z</dcterms:modified>
  <cp:revision>2</cp:revision>
  <dc:subject/>
  <dc:title>Slide 1</dc:title>
</cp:coreProperties>
</file>